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22F-99F4-4C6F-BDE2-D8CB75F7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A67-0F7A-426C-BF8D-E90C8DFA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61E-B024-4D14-9AB9-D22A7553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AB7-12FA-4AFE-9B4D-D4802001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724-696E-4ADF-B533-E73E64B3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4C9-DE96-40D6-ABE0-59ECA3C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AEC-1601-47C7-B056-F4561CC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215-72A2-46C2-87F0-D7349CC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D1D-46EA-40C5-9355-AA6414D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E4F-87CA-48DE-AB01-7393388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7D5-35BC-4E91-B4AD-CDA042A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864-C58D-4A62-B8D7-6105C22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26F-32CE-4B7E-B90E-6F780DC7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Error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be in there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be in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 met a lot of nice people I never made 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 met a lot of nic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people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never made 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to see new people; furthermore it creates an environment of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to see new people;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urthermore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creates an environment of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offer suggestions only when someone ask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offer suggestions only when someon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hild is open with their parents then the parents will know what is going on in their child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hild is open with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his or 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ent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parents will know what is going on in their child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the racers, the off roaders, and the recreational vehicle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acers, the off roaders, and the recreational vehicle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rd type of boyfriend is the user these are the guys who take advantage of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rd type of boyfriend is the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us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The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the guys who take advantage of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ghouse is a great investment because its a protective shel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ghouse is a great investment because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it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protective shel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, hyper children, is children who cannot si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, hyper children,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ren who cannot si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 dog trainer should pay attention to the personality of each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r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dog trainer should pay attention to the personality of each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20:51:13Z</dcterms:created>
  <dc:creator>NOCCCD</dc:creator>
  <dc:description/>
  <dc:language>en-US</dc:language>
  <cp:lastModifiedBy>NOCCCD</cp:lastModifiedBy>
  <dcterms:modified xsi:type="dcterms:W3CDTF">2011-06-06T21:12:28Z</dcterms:modified>
  <cp:revision>2</cp:revision>
  <dc:subject/>
  <dc:title>Grammar Error Practice</dc:title>
</cp:coreProperties>
</file>